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6A96-7B2F-4679-9A98-DD8E3AAE49EF}"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1F3C-5424-4BD4-A7C8-5756F05B87A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6E8C-77BA-48DD-8742-BAE3F01A538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86000"/>
          </a:bodyPr>
          <a:p>
            <a:pPr marL="22932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67720" indent="-228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5004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33236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71468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75000"/>
          </a:bodyPr>
          <a:p>
            <a:pPr marL="19980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49500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82836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16208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49544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495440" indent="-19980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495440" indent="-19980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80000"/>
          </a:bodyPr>
          <a:p>
            <a:pPr marL="2743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274320" indent="-2743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274320" indent="-2743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78120" y="299880"/>
            <a:ext cx="530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86000"/>
          </a:bodyPr>
          <a:p>
            <a:pPr marL="22932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67720" indent="-228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5004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33236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71468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Preservation Strategies: </a:t>
            </a:r>
            <a:br>
              <a:rPr sz="4800"/>
            </a:br>
            <a:r>
              <a:rPr b="0" lang="en-US" sz="4800" spc="-1" strike="noStrike">
                <a:solidFill>
                  <a:srgbClr val="000000"/>
                </a:solidFill>
                <a:latin typeface="Helvetica Neue Light"/>
              </a:rPr>
              <a:t>Emerging standards for preservation</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nald Weave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fontScale="86000"/>
          </a:bodyPr>
          <a:p>
            <a:pPr marL="229320" indent="-2293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strategies and technologies exist that support data preservation.   To the extent possible the data management and data provider communities need to converge on a set of standards that support preservation.  Such standardization can increase data discovery, access, and use and reduce costs associated with data preservation</a:t>
            </a:r>
            <a:endParaRPr b="0" lang="en-US" sz="3400" spc="-1" strike="noStrike">
              <a:solidFill>
                <a:srgbClr val="606060"/>
              </a:solidFill>
              <a:latin typeface="Helvetica Neue"/>
            </a:endParaRPr>
          </a:p>
          <a:p>
            <a:pPr marL="229320" indent="-2293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viewpoint necessary for preservation is distinctly different than that of the active user community.</a:t>
            </a:r>
            <a:endParaRPr b="0" lang="en-US" sz="3400" spc="-1" strike="noStrike">
              <a:solidFill>
                <a:srgbClr val="606060"/>
              </a:solidFill>
              <a:latin typeface="Helvetica Neue"/>
            </a:endParaRPr>
          </a:p>
          <a:p>
            <a:pPr marL="229320" indent="-2293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ation implies relevancy and ability to access the data 20-50 years in the future on systems as yet not developed or conceived and for purposes unimagined.</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Emerging Standards Categories</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we speak of data standards it usually means standards for data access, distribution and preservati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Forma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etadata:  including Digital Object Identifiers (DOI)     </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ncillary and supporting data sets used in the production of the data se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hysical Storage:</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ttributes of Standards for Preservation</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Format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erever possible non-proprietary and open sourc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ell understood by the appropriate scientific discipline communit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ell documented so that future users (20-50 years from now) can read the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AIS complian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SO complian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neither of the above at least follows common practices of the appropriate scientific communities</a:t>
            </a:r>
            <a:endParaRPr b="0" lang="en-US" sz="28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ttributes of Standards for Preservation</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ncillary and supporting data:</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ost data sets, especially geophyscial observations are derived from instrument data with ancillary data and calibration information.  It is essential that the ancillary data be preserved along with the primary data (instrument) data set</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se data need to be described (format, metadate etc.) to the same level as the primary data</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hysical Storage:</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gital data – the ‘bits’ must be stored on physical media and typically the data center migrates media as new systems emerge.  </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 essential point is that media will change through time and the absolute fidelity of the bit transfer process must be guaranteed and documented</a:t>
            </a: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everal websites offer links to more general data management plan development.  We suggest starting with the following:</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http://esip.esipfed.org/resources</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Digital Curation Centre Plans (Useful checklist for developing a data management plan) </a:t>
            </a:r>
            <a:r>
              <a:rPr b="0" lang="en-US" sz="2000" spc="-1" strike="noStrike" u="sng">
                <a:solidFill>
                  <a:srgbClr val="606060"/>
                </a:solidFill>
                <a:uFillTx/>
                <a:latin typeface="Helvetica Neue"/>
              </a:rPr>
              <a:t>http://www.dcc.ac.uk/resources/data-management-plans</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University of California Curation Center (Data Planning Checklist) </a:t>
            </a:r>
            <a:r>
              <a:rPr b="0" lang="en-US" sz="2000" spc="-1" strike="noStrike" u="sng">
                <a:solidFill>
                  <a:srgbClr val="606060"/>
                </a:solidFill>
                <a:uFillTx/>
                <a:latin typeface="Helvetica Neue"/>
              </a:rPr>
              <a:t>http://www.cdlib.org/services/uc3/datamanagement/index.html</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Data Management and Publishing (MIT) http://libraries.mit.edu/guides/subjects/data-management/</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a:rPr>
              <a:t>Data Management and Publishing (Univ of Minnesota)</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a:rPr>
              <a:t>http://www.lib.umn.edu/datamanagement/funding#What1</a:t>
            </a:r>
            <a:endParaRPr b="0" lang="en-US" sz="2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ommon internet search terms</a:t>
            </a: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t>
            </a:r>
            <a:r>
              <a:rPr b="0" lang="en-US" sz="2800" spc="-1" strike="noStrike">
                <a:solidFill>
                  <a:srgbClr val="000000"/>
                </a:solidFill>
                <a:latin typeface="Helvetica Neue"/>
              </a:rPr>
              <a:t>data management plan”</a:t>
            </a:r>
            <a:endParaRPr b="0" lang="en-US" sz="28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t>
            </a:r>
            <a:r>
              <a:rPr b="0" lang="en-US" sz="2800" spc="-1" strike="noStrike">
                <a:solidFill>
                  <a:srgbClr val="000000"/>
                </a:solidFill>
                <a:latin typeface="Helvetica Neue"/>
              </a:rPr>
              <a:t>earth science data management”</a:t>
            </a: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n Weaver</cp:lastModifiedBy>
  <dcterms:modified xsi:type="dcterms:W3CDTF">2012-02-26T16:01:59Z</dcterms:modified>
  <cp:revision>41</cp:revision>
  <dc:subject/>
  <dc:title>ESIP Federation 101</dc:title>
</cp:coreProperties>
</file>